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8601-207E-4A92-B095-6BF2CA1B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AA1F-63E3-4998-905F-BEA1644A70F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B3A-BAF1-44D0-A4D7-AA3EF82AB5C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777-4434-44FB-9BC9-0D0D129CD53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D18D-3F84-4942-AD4A-ADF03D0093A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023-11F7-4F07-A51C-7ED4A580251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2C5-26E9-491D-A893-78F35B7838E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6AC5-3968-47A0-A15A-EFD1B0F9475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DE5A-7965-41B2-B357-FE4974136B3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F603-2410-4D26-908E-01C2CBE557A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1AFE-AB5A-4182-B42B-2E0295BE1A3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DF69-3DA3-4D02-BD7A-28CAEF80202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5DDD-6595-40B9-8F5E-49AAB309FC0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A8C3-5FD4-43C8-BB6E-C70D531432E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029-E876-401C-AC06-203DAD74CA7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B9F-09D7-401C-B47A-BB2D63BB8878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5866-5745-414F-9123-501D08494B7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F4AA-D81C-48F0-9632-E051FED6B75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34C5-D47D-4D15-A2C7-197973DB8DF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D555-C0B2-4CA0-96DC-AD2F3C6EA15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B90F-3D56-4B8E-8F14-D29B123D608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0257-C2A7-435C-8728-6455FE183AD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6B35-ED4C-43A5-BB92-9ABF7812F84C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5200-8CEC-4E5C-97E3-47C08003BC7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E464-F42F-4F34-A080-70B139CD02AD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39A-8B78-431A-9573-ADA7265D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1FF-08A3-43DA-8507-7E7999FD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42A-3EC6-4691-8D6B-2B8D0954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FE9-E30E-4CF6-A919-C1A72CD4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9E03-4ACB-43E0-A7FA-B5DE76B7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DCC6-E0E8-43CB-A3A3-CE432699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BF06-EC1D-44CA-9A41-104F86A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795-27B4-4F95-A30B-ED3DD0ED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502-0839-4CF0-8EDD-3F6E44B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5F81-7959-4A9A-B28B-61F3DD20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9DCB-4D0A-4E03-B541-536C1D9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C91-ADC2-492E-8D52-FD40C8D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25D2-9711-4C3F-8B3F-76DEA020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3148-AB95-4071-9993-C04F7616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D916-8735-4BC3-ACB0-5FFF9F55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6AC-F93A-45D1-B4E3-332C1AC6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74D8-1894-417A-9CEC-7F13EEFB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C53-0C0E-4DBE-91A9-8FDA7DC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7D7-DF8F-4F18-A63A-5730757C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F18-8935-40A9-8C82-AE249C05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C43-1D81-4F38-9D7C-1529F5DF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46C-D6D7-4E8E-94FC-82E72B8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2B2-2779-4544-A1C7-6871505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744-C9CA-4C45-B4E8-27DB3AC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B1CE-DA27-4145-9802-9276879F3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698-60CC-4072-9822-E96F6B6A01DC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Ecolog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Tahoma"/>
              </a:rPr>
              <a:t>The study of ecosystem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Tahoma"/>
              </a:rPr>
              <a:t>Chapter 21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Marine (Salt Wat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Oceans &amp; Estuari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ypes of Organisms:  Kelp, Whales, Dolphins, Sharks, Tuna, Crabs, Shrimp, Lobsters, Salmon, Eels, Plankt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Zone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there is the presence of light from the sun (plants can grow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no light from the sun is present (very few organisms live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Wetlands, Rivers, Streams, Ponds, Lakes, &amp; Creek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ypes of Organisms:  Algae, Muskrats, Ducks, Geese, Fish, Pike, Carp, Bass, &amp; Catfish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Estuary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shallow area where salt water and fresh water mix </a:t>
            </a:r>
            <a:r>
              <a:rPr b="0" i="1" lang="en-US" sz="2400" spc="-1" strike="noStrike">
                <a:solidFill>
                  <a:srgbClr val="212164"/>
                </a:solidFill>
                <a:latin typeface="Tahoma"/>
              </a:rPr>
              <a:t>(where a river or stream meets the ocean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Wetland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area where fresh water, salt water, and land mix (marshes, swamps, and bog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northern North America, northern Europe, northern As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limate:  Cold, ground stays covered in snow, permafrost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permanent frozen layer of ground, scarce rainfall, very short summ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mosses, lichens, small plants that do need a lot of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caribou, migrating birds (come for the short summ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near the Equator, Africa, &amp;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and Humid, rains everyda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Jungle (think Tarzan), very tall trees, thick vegetation on the ground, dense canop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parrots, Apes, Toucans, Monkeys, Leopards, other predatory Cats, Snak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Canada, Washington (State), Russia, Chin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cold Winters, short Summers, frequent Rai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Evergreens (think Christmas Trees), Pines, Spruces, Cedars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Moose, Bear, Lynx, Hibernating Animals, Migrating Animal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eastern United States (think about where we live), most of Europe, Australi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Summers, cold Winters, Rainfall throughout the yea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Ecology is the study of organisms and their interaction with the environ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 organism is any living th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Examples:  Humans, animals, plant, bacter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Trees that lose their leaves, Maples, Oaks, Hickories, Sycamores, Willow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Bears, Foxes, Raccoons, Deer, Squirrels, Bird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Africa (think Scorpion King or the Mummy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, can snow at night, sparse Rainfal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Succulent Plants (retain water in the leaves), Cacti, and small Shrub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Lizards, Snakes, small Rodents, other Roden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Midwest United States (think Little House on the Prairie), Africa (think the Lion King), Asia,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dry periods with occasional fir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several species of Grasses, scattered Trees, and Wildflow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burrow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Rabbits, Moles, &amp; Rodents, graz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Buffalo, Zebras, and Giraffes, Lions, and Hyena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Biosphe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he biosphere is the living worl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ncludes any organisms that are found in the air, on land, or in the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Ecosystem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self supporting area composed of living and nonliving things such as the Rain Forest or the Deser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produces energy, transfers energy, decomposes, and recycl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made up of two (2) types of factors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Biotic and Abiotic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re non living parts of the environment such as rocks, the sun, and temper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3" name="Picture 4" descr="0254-river-rocks"/>
          <p:cNvPicPr/>
          <p:nvPr/>
        </p:nvPicPr>
        <p:blipFill>
          <a:blip r:embed="rId1"/>
          <a:stretch/>
        </p:blipFill>
        <p:spPr>
          <a:xfrm>
            <a:off x="4038480" y="20574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he living parts of the environment such as plants, bacteria, and animal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Picture 8" descr="black_lab1"/>
          <p:cNvPicPr/>
          <p:nvPr/>
        </p:nvPicPr>
        <p:blipFill>
          <a:blip r:embed="rId1"/>
          <a:stretch/>
        </p:blipFill>
        <p:spPr>
          <a:xfrm>
            <a:off x="4495680" y="4043520"/>
            <a:ext cx="4334040" cy="2814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11" descr="040525-pintails_800"/>
          <p:cNvPicPr/>
          <p:nvPr/>
        </p:nvPicPr>
        <p:blipFill>
          <a:blip r:embed="rId2"/>
          <a:stretch/>
        </p:blipFill>
        <p:spPr>
          <a:xfrm>
            <a:off x="533520" y="2590920"/>
            <a:ext cx="38145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ommunit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Is composed of all of the populations of different organisms living together in a given are such as your lawn (contains grass, insects, and worms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 population is a group of organisms that belong to the same species &amp; live in a given area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Tahoma"/>
              </a:rPr>
              <a:t>Ex:  heard of cattle of a gaggle of gees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Biom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major type of ecosystem with its own temperature ranges, rainfall amounts, and types of organism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4" descr="rainforest"/>
          <p:cNvPicPr/>
          <p:nvPr/>
        </p:nvPicPr>
        <p:blipFill>
          <a:blip r:embed="rId1"/>
          <a:stretch/>
        </p:blipFill>
        <p:spPr>
          <a:xfrm>
            <a:off x="533520" y="3809880"/>
            <a:ext cx="297180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esert-scrub-australia-web"/>
          <p:cNvPicPr/>
          <p:nvPr/>
        </p:nvPicPr>
        <p:blipFill>
          <a:blip r:embed="rId2"/>
          <a:stretch/>
        </p:blipFill>
        <p:spPr>
          <a:xfrm>
            <a:off x="4876920" y="3813120"/>
            <a:ext cx="380988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Aquatic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Land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8:56:56Z</dcterms:created>
  <dc:creator>Administrator</dc:creator>
  <dc:description/>
  <dc:language>en-US</dc:language>
  <cp:lastModifiedBy>Denice Fogel User</cp:lastModifiedBy>
  <dcterms:modified xsi:type="dcterms:W3CDTF">2013-06-09T23:43:51Z</dcterms:modified>
  <cp:revision>58</cp:revision>
  <dc:subject/>
  <dc:title>Slide 1</dc:title>
</cp:coreProperties>
</file>